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D3DE-2D9B-479E-A176-1AB56DDCAA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00E8-AB16-4EC0-81C3-CB7835D2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B070-1980-44F3-9EA8-2FA64ED5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913E-6858-4EE5-A14A-F4BB668AA2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E2E01-1CC2-461F-AD16-AF41CBCCE8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5DF55-9BD2-4C59-9D99-2097E365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C56B5-5C61-48F9-A7ED-17FDCAA5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155D6-EBA9-4127-8ADB-4A463A8C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AB51E-6B2B-422D-AB78-590F7884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F832A-F1BA-44BE-B61C-2187E3FC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1AB67-7039-4438-A9C3-516B3308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E4D0-8EE3-4263-81FD-E8464DFA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9CB57-742C-4C6D-AAE8-1C68E673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20E88-13BB-4CE7-AC44-2F3F5C15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4DA0E-3DCF-4D94-9046-B8794DA7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D02D3-60CF-4767-A697-0F3BEF84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DEDAA-B5C5-4E86-83F3-E371F78EFD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4720-25E6-4D0C-B8DA-B3BC8D2506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8D8C-4610-462D-A1E4-6916305A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74F4-7A75-4961-9E83-5CBE59CD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A13-756F-4343-A6F5-7B103DAD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24EC-13AD-4559-A79C-F582912E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6A61-A5F8-4B9A-BBB9-5F54E770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BFFF-078F-4B20-B53D-285A17F0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7EB1-AF87-4073-B3D1-64264A57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E108-22D7-42C7-8BE6-2A1CE253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7104-1F9E-4EA3-8C27-6B60284B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F17A-12A9-4B5A-B6E3-0AC4B634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F328-18F2-49E6-A3D6-DEE09D1E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C0F8-8DBF-429F-B457-EEAD316F66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BFE81-0007-4045-8CE1-00B462C3CB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87AE2-4F1D-4A68-9B20-BF18B01F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BA097-CDC3-4367-83A7-8BFC6B3E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2BEC-02D4-46D3-8BB7-CF8F45B3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1E67F-3C6D-4913-9314-E2405451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887AB-172C-4B79-A172-93E67B88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0B2BB-5A54-4920-AC5E-D5A837E3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12E66-4271-475C-A229-B36A821E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78526-BE1C-4248-80DB-FBD7601C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12A7E-163C-4236-95F6-5DF9C0C8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6092E-21A5-48C3-B0C2-F0957C17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6BB48-B6E7-43A9-90EE-B94B0392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16C6F-308F-4DD2-B105-53265E4BD7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4BA2C4-6A2A-400A-B397-5F60FBF4C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642F-2C1D-4419-BF2D-FE99605A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966CBD-5256-4B39-B693-605771F1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7E235E-E519-4249-80F0-5C2D092F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C73501-774B-4255-A634-A41114B1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3D6AC-03B3-48DC-BCAD-848C096D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19B2FE-0DBA-4F69-B02D-1A4780B7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6B71C-A210-40D7-A317-B6389C43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BDD42-3542-448A-86D0-31A17FDB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EB675-F370-4D2E-AD7A-109404E8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9C28F-F902-49E7-B72C-B2A421E0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0A2085-6E21-4FA3-872E-D0D9162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558D-B9C8-4420-8EA4-06C75713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6EEF0-2070-474F-BCB7-072C00880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2E24-8E3F-42B3-96F0-3BB43B6D6F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A2DF2-C3D8-444C-8875-BE738556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8B2E-5FFD-478E-9AF5-1542B7A2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39A3-0ED7-4D01-B728-2A41C350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0D186-8D85-493D-ADF4-9E22053B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71C6-4394-4442-82EE-6C6474FE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040F0-6EB9-4D56-953F-B7507CA4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3CE8-2D07-4B97-9769-B7EFCBE1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A2B3-5E34-475E-AC5C-DA19DEA2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605D-00D8-4D1A-BBC9-2BEB69D7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A163F-BB23-467C-A920-7AB6F2DB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888F-E128-4802-BDCF-07282E97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FBCA5-E170-404E-A07F-5472145C48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FDF2E-B2AA-482D-935B-5915C3911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46EE1-5E8E-421D-BDE7-D614AC8F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8761F-8A24-4A7B-A062-01DF03F4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6DD36-E2EB-4064-A47F-DEAA680E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5E426-F74E-4717-A9C8-36BA8A2B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76AD8-BC6A-49BA-817F-EC87A8C8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6C408-8987-409B-992E-DCA69F88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FF50-3C49-46A8-BDB3-88BECC0C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029EF-B189-4B33-8321-0E031081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D39D6-A69D-488C-8FC8-819A1446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1C7FA-D459-4FFF-A21A-9B32B299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F6501-21CC-4A42-80A0-3A5DC0F6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31D6E-BB4A-4AB8-A862-D923FF2544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B548DA-0F0B-4A3D-AB20-9CD22C67A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7FCC7A-8BE1-4664-970F-438E8ECC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7D10CC-994F-447A-A463-F58AD87A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22A8F5-6B01-4D60-92E2-B2478A6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9A66CD-D14F-4A46-9979-C29DA813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1ACC-8F54-400D-834F-82DD90FB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B98B70-39AA-4607-B5F1-50E6EBE8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25DAE2-0FD9-40D5-9495-5D57BB61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4339F9-3D79-433D-A5B2-2D729333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804932-1005-4B3D-B81C-B7971E94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131461-E32E-42CF-9DB4-0A66195B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1E2B0C-F276-40B1-9A53-7374F50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72D9D-5364-487A-899F-94B9C0E0AA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E7F6-074A-41F7-89F3-F7F853308F2D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Afbeelding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" name="Afbeelding 11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6"/>
          <p:cNvSpPr/>
          <p:nvPr/>
        </p:nvSpPr>
        <p:spPr>
          <a:xfrm>
            <a:off x="4678200" y="0"/>
            <a:ext cx="73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D581-1295-491F-8EEF-9AC1B849823C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8C43-81B3-4851-9567-F047D8B562C3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4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6" descr=""/>
          <p:cNvPicPr/>
          <p:nvPr/>
        </p:nvPicPr>
        <p:blipFill>
          <a:blip r:embed="rId3"/>
          <a:stretch/>
        </p:blipFill>
        <p:spPr>
          <a:xfrm>
            <a:off x="2411280" y="58680"/>
            <a:ext cx="792360" cy="62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4"/>
          <a:stretch/>
        </p:blipFill>
        <p:spPr>
          <a:xfrm>
            <a:off x="324000" y="57240"/>
            <a:ext cx="792000" cy="63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10F4-9145-4C41-B1A3-2D600EFCC4F9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89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3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4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9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0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5CFB-1798-46CD-8DF8-788CC52FD1CC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3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4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3683-1BC9-40A1-9B7E-9E5F73E3EF94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8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7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88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A825-4E97-4A12-BF26-377C4213A91F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330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34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3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9608-CF3A-440D-A2FA-9CC04FC56F7D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mailto:Arne.theil@ptno.nl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5905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Afbeelding 5" descr="vts.jpg"/>
          <p:cNvPicPr/>
          <p:nvPr/>
        </p:nvPicPr>
        <p:blipFill>
          <a:blip r:embed="rId1"/>
          <a:stretch/>
        </p:blipFill>
        <p:spPr>
          <a:xfrm>
            <a:off x="5076720" y="2637000"/>
            <a:ext cx="3275280" cy="2016000"/>
          </a:xfrm>
          <a:prstGeom prst="rect">
            <a:avLst/>
          </a:prstGeom>
          <a:ln w="0">
            <a:noFill/>
          </a:ln>
        </p:spPr>
      </p:pic>
      <p:pic>
        <p:nvPicPr>
          <p:cNvPr id="380" name="Afbeelding 6" descr="southamptonvts2.jpg"/>
          <p:cNvPicPr/>
          <p:nvPr/>
        </p:nvPicPr>
        <p:blipFill>
          <a:blip r:embed="rId2"/>
          <a:stretch/>
        </p:blipFill>
        <p:spPr>
          <a:xfrm>
            <a:off x="539640" y="4076640"/>
            <a:ext cx="4295880" cy="2333520"/>
          </a:xfrm>
          <a:prstGeom prst="rect">
            <a:avLst/>
          </a:prstGeom>
          <a:ln w="0">
            <a:noFill/>
          </a:ln>
        </p:spPr>
      </p:pic>
      <p:sp>
        <p:nvSpPr>
          <p:cNvPr id="381" name="Tekstvak 7"/>
          <p:cNvSpPr/>
          <p:nvPr/>
        </p:nvSpPr>
        <p:spPr>
          <a:xfrm>
            <a:off x="996480" y="242100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e Th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c9c9e"/>
                </a:solidFill>
                <a:uFillTx/>
                <a:latin typeface="Arial"/>
                <a:hlinkClick r:id="rId3"/>
              </a:rPr>
              <a:t>arne.theil@tno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1-88-8664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6440" y="1412640"/>
            <a:ext cx="82076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03280" y="3212640"/>
            <a:ext cx="6624720" cy="22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h lis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O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64087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september 2010: IALA → TNO: ‘Can TNO upgrade CARPET v2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ebruari 2011: TNO → IALA: ‘Can IALA support the business case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januari 2012: TNO presentation during IALA subcommittee. Prior to this meeting, TNO has sent-out wish l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xtensions must the new version of CARPET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development of the new version going to be financ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264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4816440" y="189000"/>
            <a:ext cx="1828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1042920" y="2276640"/>
            <a:ext cx="43344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6300720" y="3500280"/>
            <a:ext cx="432000" cy="4334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1835280" y="4797360"/>
            <a:ext cx="43308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"/>
          <p:cNvSpPr/>
          <p:nvPr/>
        </p:nvSpPr>
        <p:spPr>
          <a:xfrm>
            <a:off x="3708360" y="2781360"/>
            <a:ext cx="43200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9"/>
          <p:cNvSpPr/>
          <p:nvPr/>
        </p:nvSpPr>
        <p:spPr>
          <a:xfrm>
            <a:off x="4572000" y="4581360"/>
            <a:ext cx="43164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Isosceles Triangle 10"/>
          <p:cNvSpPr/>
          <p:nvPr/>
        </p:nvSpPr>
        <p:spPr>
          <a:xfrm>
            <a:off x="1763640" y="2637000"/>
            <a:ext cx="432000" cy="4316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Isosceles Triangle 11"/>
          <p:cNvSpPr/>
          <p:nvPr/>
        </p:nvSpPr>
        <p:spPr>
          <a:xfrm>
            <a:off x="3851280" y="2924280"/>
            <a:ext cx="433440" cy="4334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3635280" y="306864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780000" y="4437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6443640" y="378936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7667640" y="1989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5-Point Star 19"/>
          <p:cNvSpPr/>
          <p:nvPr/>
        </p:nvSpPr>
        <p:spPr>
          <a:xfrm>
            <a:off x="5364000" y="213372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6" y="192221"/>
                </a:lnTo>
                <a:lnTo>
                  <a:pt x="503236" y="192219"/>
                </a:lnTo>
                <a:lnTo>
                  <a:pt x="347727" y="311017"/>
                </a:lnTo>
                <a:lnTo>
                  <a:pt x="407127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0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-Point Star 20"/>
          <p:cNvSpPr/>
          <p:nvPr/>
        </p:nvSpPr>
        <p:spPr>
          <a:xfrm>
            <a:off x="6156360" y="3645000"/>
            <a:ext cx="503280" cy="5047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-Point Star 21"/>
          <p:cNvSpPr/>
          <p:nvPr/>
        </p:nvSpPr>
        <p:spPr>
          <a:xfrm>
            <a:off x="5508720" y="5445000"/>
            <a:ext cx="503280" cy="5050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960 h 505080"/>
              <a:gd name="textAreaBottom" fmla="*/ 385920 h 50508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-Point Star 22"/>
          <p:cNvSpPr/>
          <p:nvPr/>
        </p:nvSpPr>
        <p:spPr>
          <a:xfrm>
            <a:off x="2484360" y="400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7">
                <a:moveTo>
                  <a:pt x="1" y="192219"/>
                </a:moveTo>
                <a:lnTo>
                  <a:pt x="192221" y="192220"/>
                </a:lnTo>
                <a:lnTo>
                  <a:pt x="251619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7" y="311016"/>
                </a:lnTo>
                <a:lnTo>
                  <a:pt x="407127" y="503235"/>
                </a:lnTo>
                <a:lnTo>
                  <a:pt x="251619" y="384436"/>
                </a:lnTo>
                <a:lnTo>
                  <a:pt x="96110" y="503235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5-Point Star 23"/>
          <p:cNvSpPr/>
          <p:nvPr/>
        </p:nvSpPr>
        <p:spPr>
          <a:xfrm>
            <a:off x="3492360" y="256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8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7" y="192221"/>
                </a:lnTo>
                <a:lnTo>
                  <a:pt x="503237" y="192219"/>
                </a:lnTo>
                <a:lnTo>
                  <a:pt x="347727" y="311017"/>
                </a:lnTo>
                <a:lnTo>
                  <a:pt x="407128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1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2152080" y="616572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agreement as well as disagre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788000" y="260280"/>
            <a:ext cx="18000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95280" y="1628640"/>
          <a:ext cx="8280360" cy="462276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latest generation solid state coherent VTS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F/RF/pulslength/pulse compression ag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 Doppler filter coefficients, non standard Doppler filt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Terma’s frequency 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C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ing tool, modelling of a radar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 and other receiver characteristics (e.g. lin/log, limited number of bi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tool’, command interf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/fail verdict that relates to IAL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ide-lo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borne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6193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E623-20BA-46B4-88DF-DD6F5B50B74F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95280" y="1628640"/>
          <a:ext cx="8280360" cy="268308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sea clutter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extensive specification of loss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velocity aver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NO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920" y="2199960"/>
            <a:ext cx="70581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of the latest generation solid state coherent VTS rad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: complex waveform (RF/PRF/pulse length agility), post-detection binary integration, extensive loss factor specification, (partially) encrypted settings files, feedback of OEMs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point-like target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dvanced modern GUI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8962-614A-4A08-90FD-FDBA911597C3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6337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9640" y="2199960"/>
            <a:ext cx="8136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w CARPET-VTS will be able to assess the performance of the latest generation coherent VTS rad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the modernisation of CARPET, future steps, such as the analysis of radar networks can be taken more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16mScenario7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5:11:03Z</dcterms:created>
  <dc:creator/>
  <dc:description/>
  <dc:language>en-US</dc:language>
  <cp:lastModifiedBy/>
  <dcterms:modified xsi:type="dcterms:W3CDTF">2013-09-15T11:57:33Z</dcterms:modified>
  <cp:revision>77</cp:revision>
  <dc:subject>Powerpoint Wizzard</dc:subject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">
    <vt:lpwstr>M Bouman </vt:lpwstr>
  </property>
  <property fmtid="{D5CDD505-2E9C-101B-9397-08002B2CF9AE}" pid="3" name="Color">
    <vt:lpwstr>True</vt:lpwstr>
  </property>
  <property fmtid="{D5CDD505-2E9C-101B-9397-08002B2CF9AE}" pid="4" name="CreationBy">
    <vt:lpwstr>boumanm</vt:lpwstr>
  </property>
  <property fmtid="{D5CDD505-2E9C-101B-9397-08002B2CF9AE}" pid="5" name="CreationDate">
    <vt:lpwstr>10-1-2011 15:59:00</vt:lpwstr>
  </property>
  <property fmtid="{D5CDD505-2E9C-101B-9397-08002B2CF9AE}" pid="6" name="DateText">
    <vt:lpwstr>10 januari 2011</vt:lpwstr>
  </property>
  <property fmtid="{D5CDD505-2E9C-101B-9397-08002B2CF9AE}" pid="7" name="Department">
    <vt:lpwstr>5299</vt:lpwstr>
  </property>
  <property fmtid="{D5CDD505-2E9C-101B-9397-08002B2CF9AE}" pid="8" name="FavoriteLink1Image">
    <vt:lpwstr>TNOdummytijdsbalkbeeld001.jpg</vt:lpwstr>
  </property>
  <property fmtid="{D5CDD505-2E9C-101B-9397-08002B2CF9AE}" pid="9" name="FavoriteLink1Index">
    <vt:lpwstr>1</vt:lpwstr>
  </property>
  <property fmtid="{D5CDD505-2E9C-101B-9397-08002B2CF9AE}" pid="10" name="FavoriteLink2Image">
    <vt:lpwstr>TNOdummytijdsbalkbeeld002.jpg</vt:lpwstr>
  </property>
  <property fmtid="{D5CDD505-2E9C-101B-9397-08002B2CF9AE}" pid="11" name="FavoriteLink2Index">
    <vt:lpwstr>1</vt:lpwstr>
  </property>
  <property fmtid="{D5CDD505-2E9C-101B-9397-08002B2CF9AE}" pid="12" name="Grammar">
    <vt:lpwstr>1</vt:lpwstr>
  </property>
  <property fmtid="{D5CDD505-2E9C-101B-9397-08002B2CF9AE}" pid="13" name="PresentationDate">
    <vt:lpwstr>10-9-2013 13:44:43</vt:lpwstr>
  </property>
  <property fmtid="{D5CDD505-2E9C-101B-9397-08002B2CF9AE}" pid="14" name="ShowDate">
    <vt:lpwstr>True</vt:lpwstr>
  </property>
  <property fmtid="{D5CDD505-2E9C-101B-9397-08002B2CF9AE}" pid="15" name="ShowPages">
    <vt:lpwstr>True</vt:lpwstr>
  </property>
  <property fmtid="{D5CDD505-2E9C-101B-9397-08002B2CF9AE}" pid="16" name="SubTitle">
    <vt:lpwstr>Powerpoint Wizzard</vt:lpwstr>
  </property>
  <property fmtid="{D5CDD505-2E9C-101B-9397-08002B2CF9AE}" pid="17" name="Title">
    <vt:lpwstr>TNO Nieuwe huisstijl</vt:lpwstr>
  </property>
</Properties>
</file>